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64A-3B9E-4007-9D9F-D9905E7E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267-8D02-4BC9-A465-FA6C280D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98E-665B-4187-8BF0-DC46F6F3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3E3-027C-49DA-B30F-BD9658AF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5104-7EB0-47FC-ABF5-F98818A0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FC32-6175-4603-A7D0-28FC8FFC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3FFA-B639-4C62-A346-6D5D202A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1814-93AB-453C-B6DF-BB259928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BBDD-B5A5-4EF1-85EA-6EEE59F7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8E5C-A844-47F6-B4A0-E8A40D7B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9F7B-EFEA-4B01-A1F1-1DA95E79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FB5-4798-4422-B11E-1B927063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A92A-935E-414F-87B6-8A7825E2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DEAE-34CB-493B-BE3C-D1EA5B1D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BA62-144A-4DD3-AECC-E8B6C39D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4185-33D5-4B59-8FEC-1D853189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FB2A-5AF4-4D65-9487-BF14B4DA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3C8-4BF2-4B12-BE7C-44848989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185-4678-4BDD-B0BE-DE27544F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602-C233-4D7F-88E1-99F3C74B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F28-C417-4066-B7C9-FC65CF2D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6C3-051C-4B1B-977C-6768807E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A7A-04C8-4BD6-AE03-61826555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908-DA5A-4893-9015-89110F21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E5A0-C392-4FE2-891D-17B2E4C49E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58E4-3A00-4845-80C2-2B08D5623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verb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Quarter 5, Lesson 1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ive Us A King “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United Kingdom, Part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erbs 10-31, Pages 182-19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Words of Agur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hapters 30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confession of faith (1-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is prayer (7-9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Of wicked generations (10-14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ngs that are never satisfied (15-16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on who despises his parents (17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 wonderful things (18-20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 unfortunate situations (21-2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 little but very smart creatures (24-28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 things that march stately (29-31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ease from foolishness and strife (32-3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Words of King Lemuel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hapters 31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ice from a mother to a so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oid seductive wom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void strong drink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elp the unfortuna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aise of a virtuous woman and a good housew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ysical appearance may be deceitful and va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9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proverb i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ment of condensed (short and concise) wisdom gleaned from years of experie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ment of wisdom guided by the Holy Spirit to include for all men of all generation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as the fear of the Lord as it’s solid foundation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view - Purpose of the Boo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know wisdom and instru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discern the words of understand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receive instruction in the “whys and wherefores” of righteous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give prudence to the “simple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 give the “wise man” learning and understanding in sound rules of conduct and managing the affairs of lif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tline of the Boo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atherly instructor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chapters 1-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proverbs of Solomon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chapters 10-24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verbs of Solomon, copied by the men of King Hezekiah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s 25-29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ords of Agur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 30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ords of King Lemuel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chapter 31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Proverbs of Solomon</a:t>
            </a:r>
            <a:br>
              <a:rPr sz="40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luggard” – one who i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lazy person (slothfulness); indiffer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abitually idle or inac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kes excuses for doing nothing or very littl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oor; has nothing of value; wastefu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uses shame and disgrace upon himsel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se in his own concei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ves on the labors of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ontrasts between the wise and the fool: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wise man -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ste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alks in God’s way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n be taugh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lans his lif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reful what he say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Gets along with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4343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fool -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ill not list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es not seek G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nows everyth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 plans; haphazar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reless tong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lames others for his misfortun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hildren and Parents</a:t>
            </a:r>
            <a:br>
              <a:rPr sz="40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be taught (22:6 &amp; Eph. 6:1,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be disciplined (13:24 &amp; 22:1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listen to parents (6:20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not curse parents (20:20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not despise instruction (15:5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hildren must not rob parents (28:14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rents must love their children (13:24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Wickedness and Righteousness</a:t>
            </a:r>
            <a:br>
              <a:rPr sz="40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eousness delivers from death (10:2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eousness has rewards (11:18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eousness exalts a nation (14:34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ckedness is an abomination unto God (15:9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Warnings in General</a:t>
            </a:r>
            <a:br>
              <a:rPr sz="40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hapters 10-29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siness Dealing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terialis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ue of a good wife (or husband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contentious, nagging woma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e immoral woma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 of the tong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runken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ling with men of power (government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1:05:02Z</dcterms:created>
  <dc:creator>Don Vines</dc:creator>
  <dc:description/>
  <dc:language>en-US</dc:language>
  <cp:lastModifiedBy>Frank D Vines</cp:lastModifiedBy>
  <dcterms:modified xsi:type="dcterms:W3CDTF">2005-09-18T13:15:07Z</dcterms:modified>
  <cp:revision>19</cp:revision>
  <dc:subject/>
  <dc:title>Proverbs</dc:title>
</cp:coreProperties>
</file>